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49729"/>
        <c:axId val="56962684"/>
      </c:barChart>
      <c:catAx>
        <c:axId val="85749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62684"/>
        <c:crosses val="autoZero"/>
        <c:auto val="1"/>
        <c:lblAlgn val="ctr"/>
        <c:lblOffset val="100"/>
        <c:noMultiLvlLbl val="0"/>
      </c:catAx>
      <c:valAx>
        <c:axId val="56962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49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A74-8C3C-41F5-A291-C7DC2D1A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712-C519-40D0-8E76-BE9BF476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179-6B5D-47F5-B0D1-AB1A5C8B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BDB-C7F3-48E0-A614-4754B67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50C-43BA-4F53-AF40-F2DE4E3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6D2-86E7-479F-8E2A-02B4F1D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F32-154F-4341-BE98-98CA42C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530-CF3F-4879-A70B-88AD6AD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7EC-B70C-4D4E-8721-3A79D2B2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C5B-81F4-4F47-B6F5-00CC6F5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620-8CB3-439D-8038-153558E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297-AA14-473E-8BA7-498ADC0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15A20-8B63-484E-919D-E5A833672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