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69232"/>
        <c:axId val="43854209"/>
      </c:barChart>
      <c:catAx>
        <c:axId val="85369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4209"/>
        <c:crosses val="autoZero"/>
        <c:auto val="1"/>
        <c:lblAlgn val="ctr"/>
        <c:lblOffset val="100"/>
        <c:noMultiLvlLbl val="0"/>
      </c:catAx>
      <c:valAx>
        <c:axId val="43854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9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B4B-905A-4E69-A01A-F67B6639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6A5-F18B-4CCB-A637-7800828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8A5-BE15-4A95-B0FC-736123D9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B0B-E274-41A4-ACB9-1FD2107E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4BF-D5EC-44FF-9C6B-694E461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8B5-A0F5-4F15-BD16-D66EAC0C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F9A-2DAD-405A-9136-0BC87F5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BB7-F124-46BC-A902-BFCEFC8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061-A7E0-46BA-9608-5C1C1FF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1D6-BB5A-44FB-A550-AF2724C0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19A-7B90-42AC-8D16-114B29A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25C-D8A2-4FA3-A5BF-BAECA10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3B5D-9784-4BF0-B108-80FBA523A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