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839462"/>
        <c:axId val="8340564"/>
      </c:barChart>
      <c:catAx>
        <c:axId val="13839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0564"/>
        <c:crosses val="autoZero"/>
        <c:auto val="1"/>
        <c:lblAlgn val="ctr"/>
        <c:lblOffset val="100"/>
        <c:noMultiLvlLbl val="0"/>
      </c:catAx>
      <c:valAx>
        <c:axId val="8340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39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D43-2040-4D8F-A098-3F381DDD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3C04-4AC6-4D3F-A3A4-3EB0FFEF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E1A-6358-4AD2-A090-93CB9113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D0B-FED0-41FF-BDD9-732A4DEF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EEA-2652-4D97-880B-DB814EFF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A69-E001-48CC-9C4C-44727EB1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7F2-AD9B-43DB-956D-14B5AAE6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205-CBED-4767-BE98-C3CC481A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2AE-4443-4B62-B3F7-B30744E6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042-61E5-4BD8-BD1A-648A9498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E75-374D-4C3D-A80A-91AFC8C3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454D-2FF5-4BA7-9C9F-9693708F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F04A0-47B2-4725-9F68-16EC7D28DD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