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71933"/>
        <c:axId val="42126352"/>
      </c:barChart>
      <c:catAx>
        <c:axId val="85871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26352"/>
        <c:crosses val="autoZero"/>
        <c:auto val="1"/>
        <c:lblAlgn val="ctr"/>
        <c:lblOffset val="100"/>
        <c:noMultiLvlLbl val="0"/>
      </c:catAx>
      <c:valAx>
        <c:axId val="42126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71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CF1-B09D-4D56-B191-EBD725F3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556-42C8-456B-B377-FFAC84A8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F81-C762-4FCA-8CB0-EB2CA40F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CF0-CA86-4FEF-BBD3-96A48C8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FC7-EB1A-48C1-BB44-DA327BA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F751-0EC6-4EEB-9EAE-5D20320E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09B-0CA1-40E6-9701-E07A921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76A-8A3C-43EA-8646-E1CB9177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1C1-E5E2-467D-B89D-7B22F70E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D99-C61F-421E-B2BE-7FDB1149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D97-AC23-4FD1-B492-94974ED8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8B70-4F5D-4BDA-ABD8-09D072D5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A0F94-C9D2-49F4-A81B-A384F818AE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