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7906"/>
        <c:axId val="55059571"/>
      </c:barChart>
      <c:catAx>
        <c:axId val="5997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59571"/>
        <c:crosses val="autoZero"/>
        <c:auto val="1"/>
        <c:lblAlgn val="ctr"/>
        <c:lblOffset val="100"/>
        <c:noMultiLvlLbl val="0"/>
      </c:catAx>
      <c:valAx>
        <c:axId val="55059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7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35-8EC4-420D-B4BB-70D92CC9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7AA-B559-4518-A86E-41051DBD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033-0DBD-408A-95B0-B5E41205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8AB-B31A-4562-894E-50E2331C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367-62A1-41A8-AC84-BEE9661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01D-3695-4161-8AEB-45403F5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CFE-CA05-497A-8EC9-DBFF84A8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972-7388-47B8-A126-2B72B569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75E-949A-4B63-9B7E-7855FCBE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F81-C31C-49C8-88A8-199D4788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CA7-996F-4F66-BBC7-FF990C7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03E-B20C-44DF-92F3-EFC0B7DB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593B3-546B-4F24-85CC-C6FBAFB25B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