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56111"/>
        <c:axId val="86102441"/>
      </c:barChart>
      <c:catAx>
        <c:axId val="61856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02441"/>
        <c:crosses val="autoZero"/>
        <c:auto val="1"/>
        <c:lblAlgn val="ctr"/>
        <c:lblOffset val="100"/>
        <c:noMultiLvlLbl val="0"/>
      </c:catAx>
      <c:valAx>
        <c:axId val="86102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56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294-7F14-4F75-A7A1-8BAD30F8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4EF-9EC0-4F6A-8C15-5C507930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8991-C9CF-413E-A926-9A33B092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989-E612-4930-B3E1-D594EB10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1208-1403-441C-8871-4F9624D3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9E1E-F7C0-400B-A6EB-5F32B76F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A85-21A4-436A-8C09-FDFCD90C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4EB-C9DC-4484-AB17-02977C65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4E1-5F2A-4A7B-820F-1C9D87BC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926-FBFF-4F7A-88DB-B0BE022A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BBE-C63F-461A-8A24-EF6B20AA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D42-4E99-45BE-A0B9-16CC014D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D113A-FC2A-4DEA-8282-AFFF0D01C6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