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33594"/>
        <c:axId val="12959411"/>
      </c:barChart>
      <c:catAx>
        <c:axId val="42533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9411"/>
        <c:crosses val="autoZero"/>
        <c:auto val="1"/>
        <c:lblAlgn val="ctr"/>
        <c:lblOffset val="100"/>
        <c:noMultiLvlLbl val="0"/>
      </c:catAx>
      <c:valAx>
        <c:axId val="12959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33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B4F-834C-4F6B-ADDE-18816F94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115-448C-492D-91DE-E4AB71E2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C3C-BC55-4443-B9CF-65B2B1F1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AB7-D606-45D6-AA55-491BCD02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B6E-1E0C-4969-A58B-3C19F6B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039-ED4B-447D-B076-81CC3EE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846-6166-4199-A145-785494E4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1EF-793D-408E-84E0-42E84320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F7A-8ABE-4584-8FB3-B0FCB4EC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D76-8392-43C1-B072-9D523B2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E9E-8C83-4908-85B0-E618603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FC7-0283-4B9B-A828-55503C1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CB8B5-10AA-4934-83CE-86B464D3A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