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7680"/>
        <c:axId val="62202667"/>
      </c:barChart>
      <c:catAx>
        <c:axId val="8647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02667"/>
        <c:crosses val="autoZero"/>
        <c:auto val="1"/>
        <c:lblAlgn val="ctr"/>
        <c:lblOffset val="100"/>
        <c:noMultiLvlLbl val="0"/>
      </c:catAx>
      <c:valAx>
        <c:axId val="62202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7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D44-9817-4FA3-BA1B-E421EA9A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206-487E-4FA9-828D-C8ABB985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599-E440-4007-9C4F-BE496635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688-783E-4B17-B7FA-4466E451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921-C55E-4B7C-8CDB-5455482A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453-6CAD-4BE6-A15D-9FEB2417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177-DE46-46EA-AF4A-44C99FE6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67A-EC22-406C-BCBF-C953168C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EA5-6583-44B7-BE3D-FD8A6747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2FA-DA6E-4BBD-815B-D7563248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2EB-0E95-42A6-A23F-859B66AB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F6A-A1E1-4A6B-A0A7-096B50A3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95425-30D2-4A4B-87F8-4840F1AC58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