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8560-4F49-4EED-9FDA-48691871A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2294-6C07-4DF9-B320-A4825988E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03C8-0BCE-4EB2-91F6-550492221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B452-3E74-4457-A3C2-F5E4105FF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A28C-F703-4601-93B7-7EC4E26BA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F167-A09C-4BE7-863F-2846D1EEB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6C8C-3E07-4B56-81C8-A05AE17A6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BE6B-DE35-4437-9B3B-D8557A046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05320" y="-360"/>
            <a:ext cx="533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9E91-CFEE-43D2-AA6D-B409EBBFE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8F04-951B-4CF8-829B-9AD00CE3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266E-6ED4-49A0-AF43-819A8747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9924-9F3E-4692-860B-6841E3A32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pt_backgr_04_details_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EDA04-B06D-4FFB-8493-6F0AEC4007F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pt_backgr_01_welko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wij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ugblik FP CK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oruitblik FP voor Informatic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lium opnemen in 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stributi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t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nneer openbaar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tform ondersteu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aa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sec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ule syste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rrefutable patterns (~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formatie (A-terme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oks” voor andere system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y structu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e / direc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oppeling met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U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62280" y="228600"/>
            <a:ext cx="525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ie doet Wat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08:34:29Z</dcterms:created>
  <dc:creator>Arjan van IJzendoorn</dc:creator>
  <dc:description/>
  <dc:language>en-US</dc:language>
  <cp:lastModifiedBy>Arjan van IJzendoorn</cp:lastModifiedBy>
  <dcterms:modified xsi:type="dcterms:W3CDTF">2002-12-18T08:42:02Z</dcterms:modified>
  <cp:revision>6</cp:revision>
  <dc:subject/>
  <dc:title>Onderwijs</dc:title>
</cp:coreProperties>
</file>