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564"/>
        <c:axId val="20284837"/>
      </c:barChart>
      <c:catAx>
        <c:axId val="792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84837"/>
        <c:crosses val="autoZero"/>
        <c:auto val="1"/>
        <c:lblAlgn val="ctr"/>
        <c:lblOffset val="100"/>
        <c:noMultiLvlLbl val="0"/>
      </c:catAx>
      <c:valAx>
        <c:axId val="20284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ADA-6EED-498C-B961-46A9A451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8D5-D662-4507-A2FF-D6D1DFEF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EAF-5B01-4290-B1E7-0CADFCBD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59C-BA98-48EE-BF08-8DA0A5F6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E09-C65D-4C58-90C9-453C1BF6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D37-F9CB-49FC-989A-2E580B3B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204-3BD8-454E-92D6-62EA9A6C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776-A568-4C9F-8912-9F49FA91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952-7FB1-468F-AA28-65C96CF6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146-F3CD-471A-BB16-0527A59E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1AA-B397-4558-9A67-F41856E8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7D2-C38D-47C6-8094-02211EA2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73122-1B01-444D-8DCD-79015296F8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