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553845"/>
        <c:axId val="1896840"/>
      </c:barChart>
      <c:catAx>
        <c:axId val="125538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6840"/>
        <c:crosses val="autoZero"/>
        <c:auto val="1"/>
        <c:lblAlgn val="ctr"/>
        <c:lblOffset val="100"/>
        <c:noMultiLvlLbl val="0"/>
      </c:catAx>
      <c:valAx>
        <c:axId val="18968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538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39F-8896-4A4F-8D21-7A57829C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569C-DD7C-4A2E-9EA5-54803A4A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41AB-01EC-4678-90E5-A28B2152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ADFE-8440-4EB5-8579-F78D3C93C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693-61D7-45E7-AC09-2D5C592D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8BC-E28C-4834-A61A-4699EA90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55D7-43D5-44FD-87AE-CC36D27F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233-3906-42E6-BEB6-5C55806B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43B-FD6A-44A7-84BE-63156ACF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B0D-37A3-4F64-8929-858168C7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324-A80F-40A4-B897-13715156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68EB-0130-499B-B916-8AC48A49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C222D-2C9E-4D38-ADA5-3E70439A89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