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3174988"/>
        <c:axId val="13645102"/>
      </c:barChart>
      <c:catAx>
        <c:axId val="7317498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645102"/>
        <c:crosses val="autoZero"/>
        <c:auto val="1"/>
        <c:lblAlgn val="ctr"/>
        <c:lblOffset val="100"/>
        <c:noMultiLvlLbl val="0"/>
      </c:catAx>
      <c:valAx>
        <c:axId val="1364510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17498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F927-7512-49F4-9F73-5EBE812FE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A234-0594-4BD4-8A14-51DD7BA9E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729E-C5A0-4395-9FA9-C4E639177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925F-A308-42C0-A56D-E66196035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B8A1-71DD-445B-892A-E641824DC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1972-1665-4160-91BD-BBAE33BC4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3D78-375A-4ECF-8180-DBB06A506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4B03-EB62-4876-A21C-2A9B729D3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BCB1-4055-4DB5-A1D8-FEEC8EF4C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B455-70AF-4C17-83A9-137170E68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E70D-1D68-455C-8B5D-004C7D88B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0406-B5E5-4051-A685-F13EAF77C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96B54D-FF3A-4111-8482-E25FE56EB39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